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FD9-7BDF-42FB-BD3D-0D5F75B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7FA-E96D-4B2D-B678-147A0B7F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ADE-B4C7-4A0E-ACA2-131DE026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AC1-834D-44AB-B07E-01E9A72C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077-F2E5-4B53-A7B0-8F5984C9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0FB-E63D-4AA7-9C0B-CDC230F2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C3D-8416-4DFC-A1C2-59385A1E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D05-47B4-4FB9-84DF-4E73BEF6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A9F-ADBF-4B24-BE53-8A73C6C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BD1-85E8-4DEB-A52D-94BB971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14D-0468-4E15-A17B-E34184F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718-2B7D-4D7D-8D30-E444A7D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CEEC-4A32-4258-A8FB-0CB6100FDC5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92040"/>
            <a:ext cx="8191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Introductio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to the “Cavities and vessels” session (</a:t>
            </a:r>
            <a:r>
              <a:rPr b="1" sz="1800" spc="-1" strike="noStrike">
                <a:solidFill>
                  <a:srgbClr val="0f07ff"/>
                </a:solidFill>
                <a:latin typeface="Times New Roman"/>
              </a:rPr>
              <a:t>by L. Mo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10’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esentation of the Laboratoire Souterrain de Modan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1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. Gerbier (Saclay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Large excavations in the USA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. Petersen (Minneapolis) talk presente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by Chang Kee Jung (Stony Br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0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Study on the Excavation of the Hyper-KAMIOKANDE Cavern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3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. Nakagawa (Tokyo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10h 40’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-------------------------------   Coffee break </a:t>
            </a: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(20’)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 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Large excavations in Europ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. Lévy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Engineering of large and deep rock caverns for physics research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. Duffaut (Paris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2h 00’  Concluding Remarks of the Conference (20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K. Nakamura (KEK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4582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Candidate sites for futur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of Very Large (“Megaton scale”)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Jap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perKamioka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North Amer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cades-Icicle Creek, W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derson Mine, Empire, CO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omestake Mine, Lead, SD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Kimballton Mine, Giles Co., V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an Jacinto, 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udan Mine, Soudan, MN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NOLAB, Sudbury, ONT (Canada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IPP, Carlsbad, NM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Europ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éjus tunnel (France/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land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790640" y="-573120"/>
          <a:ext cx="12725280" cy="80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0640" y="-573120"/>
                    <a:ext cx="12725280" cy="80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Gran S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9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dbur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733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Fréjus-L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) vs Depth (mwe) for already existing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105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124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ak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ouda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907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nfranc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13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Pyhäsalmi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9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Homes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296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oulb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90720" y="838080"/>
          <a:ext cx="75438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5438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9040" y="0"/>
            <a:ext cx="4711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0f07ff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) vs Depth (m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for 3 projects of future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(</a:t>
            </a:r>
            <a:r>
              <a:rPr b="1" sz="1400" spc="-1" strike="noStrike">
                <a:solidFill>
                  <a:srgbClr val="0f07ff"/>
                </a:solidFill>
                <a:latin typeface="Times New Roman"/>
              </a:rPr>
              <a:t>the already existing Labs are also shown for comparison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5440" y="23464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Y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05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Fréjus-Memph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22096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120c"/>
                </a:solidFill>
                <a:latin typeface="Times New Roman"/>
              </a:rPr>
              <a:t>UNO-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8800" y="4191120"/>
            <a:ext cx="7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7480" y="5943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0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028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19320" y="4413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and HyperKamiok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040" y="841320"/>
            <a:ext cx="7657920" cy="5173560"/>
          </a:xfrm>
          <a:prstGeom prst="rect">
            <a:avLst/>
          </a:prstGeom>
          <a:ln w="19080">
            <a:solidFill>
              <a:srgbClr val="ff0c1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429000" y="2590920"/>
            <a:ext cx="1295280" cy="3047760"/>
          </a:xfrm>
          <a:prstGeom prst="line">
            <a:avLst/>
          </a:prstGeom>
          <a:ln w="38160">
            <a:solidFill>
              <a:srgbClr val="ff1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4680" y="228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CERN-Fréjus  MEMPHY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4320" y="914400"/>
            <a:ext cx="7513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1" sz="2400" spc="-1" strike="noStrike">
                <a:solidFill>
                  <a:srgbClr val="ff120c"/>
                </a:solidFill>
                <a:latin typeface="Times New Roman"/>
              </a:rPr>
              <a:t> challeng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s n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find out the best site(s)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lativel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volum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megaton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 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venient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ong baseline) with respec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ccelerato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be able to 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excavat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 stabiliz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ca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t us see with the talks of this session 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42:32Z</dcterms:created>
  <dc:creator>Luigi Mosca</dc:creator>
  <dc:description/>
  <dc:language>en-US</dc:language>
  <cp:lastModifiedBy>Luigi Mosca</cp:lastModifiedBy>
  <dcterms:modified xsi:type="dcterms:W3CDTF">2005-04-12T01:54:12Z</dcterms:modified>
  <cp:revision>62</cp:revision>
  <dc:subject/>
  <dc:title>Présentation PowerPoint</dc:title>
</cp:coreProperties>
</file>